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58B2-7B94-4E87-82B7-5F406195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cold m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given that it was good for us because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given that it was good for us because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.h commits because of changing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ve est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counting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old method of grids like arch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new method using statistical pro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have specced the project for *just* the model and a prototype of the View and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says Russia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S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491-7E18-4537-824A-304CEA7F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D31-7650-41D2-B7FC-A07ACF3A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193-29D5-4017-A21A-4187301E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FF8-B9FD-4498-B5E2-8A6AD933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ED1-39B5-4675-BB2F-173F2852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873-DD51-4352-AA6C-061CBB8E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C33-5B74-4156-BABE-CC58731E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933-7A62-4E49-BA77-8BE32555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276-5A7E-4673-9F60-67598EA2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D78-FA2E-4126-B089-CFA856B0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DE3-175F-49AD-A0BC-F1421F69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B07-25FC-4946-BBA6-51D75705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A9C-1076-46BC-A3A5-9D8B7C218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se Habitat Surveyor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Alaska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 401 : 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Moose Chasers (Cold MC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 Konov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ris Kulha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im W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s well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r manipulate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rend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Panel to show plant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View control to show the mode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Grid control to show instance variables of mode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0760" y="1599840"/>
            <a:ext cx="7931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çade Pattern (FieldTr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s Model class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with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p = ft.getWp(wp_idx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 = wp.getPp(pp_idx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 = pp.getCyg(cyg_idx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.setCygBase(base3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çad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.cygSetBase( wp_idx, pp_idx, cyg_Idx, base3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ç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nd fast to implement because you can use protected variables instead of set/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function calls to manipulat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innards can be changed without affecting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great O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omponents not very re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puts should be able to use ink, keyboard, or attached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lexibility in th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0"/>
          <a:ext cx="9144000" cy="70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3D meshes because of architectural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Patch Model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Grid GUI View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+ string pars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point Model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View GUI View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ise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NET C++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YearGrowth Model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PictureBox GUI View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l slave (coffee, lunch, note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ished(?)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n’t know until 5 minutes ago what exactly we were going to show you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t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: Me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: Data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: TreeView from mode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: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files (70 exp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egs of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Lines of code (3500 ex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 pages of docs (120 ex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APIs (3drp, DirectX, TabletPC, .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3 CVS com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 CVS commits for Model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9 Total person hours (519 exp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hours of meeting time per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of research/design/writing time per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hours of group time per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8 hours of code time per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1494000"/>
            <a:ext cx="3429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: Things we did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VS is good, viewcvs makes it better, statcvs makes it even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or not, Visual Studio is 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meeting agendas and minutes increased trace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division of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8 hour work together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alk throu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ies like the forest service need a way to task biologists to measure and predict the amount of Moose edible biomass in a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random samples with a computer and project the distribution onto a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: Things that su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any new technologies (Cray qu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experience in C++ and C++ .NET espec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lient buy in. Should have had a contra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earlier, especially with new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expected application behavior better in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Libs and new libs (VC2003 vs. VC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project schedule earlier and revise conti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won’t achieve acceptance of origi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ould have majored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ust kidd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(for re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is challe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mbers does not equal 3 times the effort of a single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lanning can save time and effort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ine is more important than g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 is better than exc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is the most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get a list of GPS waypoints from an Agency like the fores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go to each Waypoint and sample 9 CurrentYearGrowth (CYG) of many PlantP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export the biomass data to a file and give it to th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09480" y="304920"/>
          <a:ext cx="80773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80773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3520" y="990720"/>
          <a:ext cx="81532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1532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533520"/>
          <a:ext cx="8915400" cy="43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91540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0"/>
          <a:ext cx="4935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0"/>
                    <a:ext cx="4935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914400"/>
          <a:ext cx="807732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807732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Rend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iew of instanc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: Import/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ce: Save/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Radio Pen (3d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2:19:25Z</dcterms:created>
  <dc:creator>Jim Weller</dc:creator>
  <dc:description/>
  <dc:language>en-US</dc:language>
  <cp:lastModifiedBy>Jim Weller</cp:lastModifiedBy>
  <dcterms:modified xsi:type="dcterms:W3CDTF">2005-12-07T20:20:41Z</dcterms:modified>
  <cp:revision>6</cp:revision>
  <dc:subject/>
  <dc:title>Moose Habitat Surveyor</dc:title>
</cp:coreProperties>
</file>